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7C34-D050-4729-A21B-2AEAB586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83BD-F702-41AC-B8A3-5A1BD9FD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9BD-A25F-4964-A34C-D8EE0A29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050-7FA2-4CE5-8EF9-4F9267A0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1E7AB-A0C8-4112-B7D6-C2470160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A68BA-EECD-45F7-A4F5-51469A5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CD1BC-C0F3-485C-B196-164F2CB4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0EB71-DA1F-4A69-AB43-CCE06B79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E68D7-4953-4ED5-A7AD-3069D64E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C6B77-FE56-4479-84DB-9FFAAB5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6F96F-CC1D-42DF-A9C8-38DECD37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22385-99A4-44B0-9A67-004F1501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1B621-B901-4CEE-B893-8CE3F0EB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94208-DFDE-4F10-9F9B-F6EA71A1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9AB-9F55-452D-9379-B4A041AE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31489-120A-4110-8D38-8C0FE8DB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1362D-EF47-4491-9028-0A2A156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2D204-5818-472C-87C6-B51DB02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15FB6-E435-4B08-BF99-5486EE57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4C96B-C306-4833-A2E6-50F7D799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E4233-0FBB-4193-BE6A-DA391E1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EDB92-A9D6-495A-B251-937735A2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0DF6E-966A-446E-BBF0-62E16260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362F5-C2E4-4F22-8D7D-191D6A8B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8126A-DBB2-4199-8B42-ECC2F412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146-3B31-4153-8D1E-0AE13097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2A81C-4EA0-430A-92C7-DBF80D49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E1BD7-80FB-48BA-973D-DAF46BD7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6E1A1-83ED-40E5-9F0E-4DAB05E7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D42A7-6B22-48AA-A476-8564A54B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338E4-E423-4FFD-A6CC-D82B8E2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4B70B-470C-4621-B2E7-37525881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2B3AE-6592-4F83-A636-4C2C0533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2BFE5-5B4E-4A07-B0CA-F2D4E75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5FC05-F5EE-4AC9-82C0-B327825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380D2-C134-4E39-9AE1-17B76DA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E539-BEDA-4C24-AFCE-99ACC0F6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B8C87-5CFE-4E9C-9963-5E61699A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4A954-2411-40C5-A7DE-FAF158B7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35AD4-55C9-4588-9EA6-A86B56D6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82818-A163-4C31-9DA1-1AA0BACB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88201-581F-4C0B-860B-E2B2F6BF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9A5F9-7381-421F-81D6-2EA6F11B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E8D83-AA0E-45FD-8221-C085B41A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6BE8A-FD00-4B14-B975-BFE7093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4D431-0205-4571-BEFA-C4F3BA5D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192BA-B93F-44DB-BFE4-433434C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2343-B7B1-476D-9C32-B70C7F4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AA0E9-301A-4388-8057-23F77B7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EB43E-8124-4856-BA7F-C5C222D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993E4-A9D0-475F-A6C7-DD70C923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1B1EB-CD03-4A06-BDD9-E297D225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20987-7ACF-4319-902C-35FDDFD8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557F5-A193-45ED-98B1-AFCF2655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9A038-D08A-491D-83D3-FB3C3B40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33D7E-6731-49FD-A10C-8E6FF550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8D580-01B8-441D-A848-00587F64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9D730-CA5C-4FFC-BCD3-AC85C4C0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ED92-95A0-435A-AC56-218DD82D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C0270-6812-4581-B5E5-55DC68E3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ACF94-44D1-4C47-A65E-CA01312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FCCE4-490D-4566-A1AF-8379097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4D458-97A7-4F72-A482-F3AA531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B3D2A-9F6D-47D7-95EC-629F63D9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78F8B-1254-48F5-89D0-21AAC4E3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7D788-5621-463E-AFDD-5358F773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1E17-38B3-472C-8397-1D41DB4B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BBD7-530E-40BA-9030-0CFA1500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642D-5634-481B-8BDC-CF455E7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D226-1C50-4C10-8F6F-1355A69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3B7-6471-411D-99E4-4A383C0B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AFE6-0656-4700-93C5-058F7F90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2363-348E-4A55-947C-3F2F82E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403A-BF8D-4592-B4DF-B22B267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A60-4274-4425-ADD9-41F13807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40B-4E4B-4AED-93F4-4AFAFC1C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BE33-4B49-4402-9008-3CAA28A3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DF94-864F-4BA5-94FB-CA5B6980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0671-093F-4828-98B0-1EA11FC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8CA5-B8D8-41F2-A058-3A4C176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9619-BCA1-41BF-814D-C8123B10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EB8-F3B1-4054-9F31-1C9318A2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A39B-0905-46D7-9459-BB4CAE32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E69D-8D52-49A5-BF7B-A800F103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5C34-D389-4F1D-979F-4954FC57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0E02-346E-4E89-BABA-8365865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1CEB-B3B5-49F5-B76C-D1DDEA6C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F3C1-E077-4420-A390-9D7D91CE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9272-8B7B-41E1-A5CB-B53D92DF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DD72-48B3-4450-8A78-05017A84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E8CD-C3F5-4D3B-8CAF-0924F120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5014-C00E-4AF0-AD4A-2CBDE745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BB2-9348-4979-9CB4-14DDA3FC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2750-0D7A-4748-9A6D-2CB39C99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0D92-7B86-4C41-9420-1156AE2B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EED4-A9BC-4217-A0AC-2779D5A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A118-24E7-4097-9B7D-AE751897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DCFF-510A-424C-8C0A-2E39C843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DE02-2691-41F5-B043-15983177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DC7D-DFD0-4ED5-9CA5-BBB437E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237C-2C2B-4F50-9AEB-912A95F2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57C1-52D8-4344-A19D-4F938793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98EE-CC0A-47DF-8F7A-59D1367F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639-3464-404C-A76F-59EDCC8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8D78-27EF-47C7-B3E1-52213FA7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54D7-7544-49FF-BF37-E1F3AE93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110F1-C64F-40BC-A4C0-0D3589F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4E18-031A-4A0E-B435-FF73185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AA53-320F-4C3E-8684-85F0F3BF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B096-F9D1-4AB4-9707-6DC3211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F512-1C62-4088-BC40-2D2EF28E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EAAD-EDA1-4B85-A368-D546CDF3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2896-BF74-4778-8F1E-1791BD36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C534A-D44A-4DC9-A4EA-07BD2F91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E7B-9D60-4AA0-939C-2431A623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6A5F-6C18-4EC4-800B-E7CE4E70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7B17-9E9F-487C-B2E3-F19007CD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24269-6C26-4C29-A526-40AF56C8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2256-8FA8-461C-AD2E-A1F03B8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1612D-C244-478E-A5C8-D647D82B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F1B0-7CCC-4AF3-B479-C05F1628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07448-1514-4D43-A232-7C4D86D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B0690-9087-46E8-9C5D-90CCF37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7511-64E4-4CBB-9EEB-8F0595F2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BCCD-5FF0-4350-89B6-208C3E3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D93-A35A-4C18-80D8-9ABFEC35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BA27-53CA-4745-9F19-C1877C1A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966A-6933-4313-8DB6-8B45BAD2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3419-D0E4-409A-8FE9-AD420F7E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1F2C-F7D6-49D6-AA0A-7E94BCDC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AACC4-A7F3-4C34-BFD7-03D88649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99297-199B-4394-AD36-51BB10A5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2415-0852-4ED5-9D39-AE6AE315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2D410-8964-4D55-BCE2-D790797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25C9-387A-4C99-A9D7-3E079DC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D83C-FB09-4659-82B6-B664169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635-4304-471F-A23A-4F264F19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4EAB4-BEDA-4E95-BF32-2A02F16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650DD-81A0-487B-A136-3AF840A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30319-4581-4966-91A4-26F378CB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0C20A-3281-448E-BE6C-451E22F0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6C6C-43D6-411A-B3EA-B0D91B9D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2FC6-8315-46A5-BD21-AC8ACBF9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4CBC2-147C-4B86-8CA2-89996875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62980-5C76-4CBD-A3B3-62EC252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ADDFF-588F-4F25-95DF-D88BFD30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03CD7-7421-44BA-A5A2-5686EFEF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F3E-FAC0-4DAF-85A5-90C3D9F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81D89-0C7C-4A50-BEDA-366E7BDD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E7709-F73B-48AE-BDEC-1639FF0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03BCB-AE03-46F7-B245-2784333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E39A0-A314-4C0D-BD10-2BC1FE9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2D7B-76AE-4436-B120-19ADD1A3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DA7AC-A1C9-48E5-9B2C-8ECBF979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05F3-8611-47DA-B927-571F4B1E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87158-1628-4CDD-9F3B-4A237468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9CF0A-20F6-43CC-9D98-809A0E2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469F5-4376-46C3-974C-D664670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01B-F019-4EE1-ACB9-4F099350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7622-F74B-4A72-8B6A-F54348CCC6A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3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2496-B9CF-4E41-B297-2E75F3EBF280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475-532A-4E03-B062-01E3C29B93C0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1174-4D16-429B-93FC-94C879DA68D7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E809-EBDE-4421-85A1-7006A8A9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8FA-0F3A-4D2D-BE17-5396F073599D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1DA5-7281-4FFB-84E9-9A921AA976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CB6D-9D4B-4832-B39E-06ED67E4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BA28-30AB-4109-A5F7-0F3FBE9E5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E2D-4F98-4F6C-BEB0-71EFECDCD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15A-B9CE-47A8-92A3-12EC976E4B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6AD4-6E0A-4CDE-8324-966DD3E7FA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&#233;ctor_Abad_Faciolince" TargetMode="External"/><Relationship Id="rId2" Type="http://schemas.openxmlformats.org/officeDocument/2006/relationships/hyperlink" Target="http://daytranslations.com/famous_colombians.aspx" TargetMode="External"/><Relationship Id="rId3" Type="http://schemas.openxmlformats.org/officeDocument/2006/relationships/hyperlink" Target="http://en.wikipedia.org/wiki/Andes" TargetMode="External"/><Relationship Id="rId4" Type="http://schemas.openxmlformats.org/officeDocument/2006/relationships/hyperlink" Target="http://en.wikipedia.org/wiki/Amazon_Rainfores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mb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nnah Staska and Amanda Va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n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Weasel- an endangered species. Weighs approximately 138 g. The live clos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ton Top Tamarin- Weighs about 1 pound. Found nea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Squirrel Monkey- Exhibits grayish- brown coloration with a very pale orange ti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Colombian Weasel.jpg"/>
          <p:cNvPicPr/>
          <p:nvPr/>
        </p:nvPicPr>
        <p:blipFill>
          <a:blip r:embed="rId2"/>
          <a:stretch/>
        </p:blipFill>
        <p:spPr>
          <a:xfrm>
            <a:off x="914400" y="4724280"/>
            <a:ext cx="1765440" cy="1276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otton Top Tamarin.jpg"/>
          <p:cNvPicPr/>
          <p:nvPr/>
        </p:nvPicPr>
        <p:blipFill>
          <a:blip r:embed="rId3"/>
          <a:stretch/>
        </p:blipFill>
        <p:spPr>
          <a:xfrm>
            <a:off x="4114800" y="4724280"/>
            <a:ext cx="1219320" cy="1238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Squirrel Monkey.jpg"/>
          <p:cNvPicPr/>
          <p:nvPr/>
        </p:nvPicPr>
        <p:blipFill>
          <a:blip r:embed="rId4"/>
          <a:stretch/>
        </p:blipFill>
        <p:spPr>
          <a:xfrm>
            <a:off x="6781680" y="4648320"/>
            <a:ext cx="114300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briel Garcia Marquez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wrote the novel, “One Hundred Years of Solitude”, in 1967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antiago Gamboa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uthor of the travel book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ctubre en Pekin(October in Pekin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èctor Abad Faciolince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ad is best known for his novel,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Angos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gotà        Pop: 7,102,6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i            Pop: 2,392,87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ellín     Pop: 1,999,97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ogotà                                     Cali                                 Medellí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0" name="Picture 4" descr="Bogota.jpg"/>
          <p:cNvPicPr/>
          <p:nvPr/>
        </p:nvPicPr>
        <p:blipFill>
          <a:blip r:embed="rId2"/>
          <a:stretch/>
        </p:blipFill>
        <p:spPr>
          <a:xfrm>
            <a:off x="762120" y="4648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Cali Colombia.jpg"/>
          <p:cNvPicPr/>
          <p:nvPr/>
        </p:nvPicPr>
        <p:blipFill>
          <a:blip r:embed="rId3"/>
          <a:stretch/>
        </p:blipFill>
        <p:spPr>
          <a:xfrm>
            <a:off x="3048120" y="4572000"/>
            <a:ext cx="2409840" cy="1625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medellin.jpg"/>
          <p:cNvPicPr/>
          <p:nvPr/>
        </p:nvPicPr>
        <p:blipFill>
          <a:blip r:embed="rId4"/>
          <a:stretch/>
        </p:blipFill>
        <p:spPr>
          <a:xfrm>
            <a:off x="5791320" y="4800600"/>
            <a:ext cx="2023920" cy="133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ccer is the most popular sport m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ere are many other sports played. There is not a specific one for 2 &amp; 3. Two other sports are cycling and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y/Top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s Mountain Range- worlds longest continental mountain range. Continental range of highlands along the West Coast of South America. 7,000 km long (4,300 m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zon Rainforest- only a little part of the rainforest is found in Colombia. It is believed to have formed in the Eocene 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anos- A vast tropical grassland plain. It is east of the Andes Mountains. In northwest South America, especially Colombia and Venezu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%C3%A9ctor_Abad_Facioli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aytranslations.com/famous_colombians.asp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An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Amazon_Rainfor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ikitravel.org/en/El_Parque_Tayr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Gabriel_Garc%C3%ADa_M%C3%A1r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Santiago_Gamb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opulation.mongabay.com/population/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veryculture.com/wc/Brazil-to-Congo-Republic-of/Columbia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25:46Z</dcterms:created>
  <dc:creator>User</dc:creator>
  <dc:description/>
  <dc:language>en-US</dc:language>
  <cp:lastModifiedBy>JSEAQUIS</cp:lastModifiedBy>
  <dcterms:modified xsi:type="dcterms:W3CDTF">2011-02-09T18:48:03Z</dcterms:modified>
  <cp:revision>16</cp:revision>
  <dc:subject/>
  <dc:title>Colombia!</dc:title>
</cp:coreProperties>
</file>